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3F16-037E-4795-99B5-315592582A82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778F-FC0C-48D6-B107-2D415D7D7D86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CD06-4039-4CA7-9BC3-CDD81BE2199F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8206-65AB-48DC-A801-F4112C607E7A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09A8-2DD7-4CC7-973D-C46AB48C1145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9C38-E937-40FD-AED1-279491E10D48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AE89-A9C0-4886-A54C-3BF3D658E8CE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860C-BC4C-492E-AE43-BCF78658DAA9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512-CE5D-4872-9A63-8F706155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A74-20A9-43EB-98B1-EDD5D8AC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3A6E0-DD2A-49AA-A019-AAAEEEB0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31D6A-74E6-4F60-A036-9385DB80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40703-F2CD-4CE2-B475-E612764D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F5EDD-0A17-4999-B0BF-335E33B6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4B938-C9C4-45CE-87D0-F3C6D685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3CEB3-7A4D-4ABA-930E-F6BE09B6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A1E94-71F1-4A6B-8C70-7E4348D9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5E22E-733F-4A62-83D4-39639718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05A2B-4761-4B8A-9BAB-51F7FAF0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DB7-F2D0-4753-9BA6-AEDBC579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C926-C386-43C3-8B01-6CF71946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2033-07A1-4619-9BB6-F06CCF3A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8304-6110-4FF3-9AF4-8BCE73BD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40F6-1D37-48FF-9BE3-44E8D25F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5DF5-51BB-48B8-95E1-1EDFAE0F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834F-820A-4CD6-8A7C-2A283935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DF97-1F56-4B4A-9AC3-A9929634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2218-E4D8-4689-BBF7-09A7788D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8B8-43DB-4264-9B1D-EDC6A2F6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8912-D53D-4868-98E3-F6BE6DBA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F413-C5EA-4F48-92E8-DB6A44D2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3548-E1FB-49A8-ACEC-E661D603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AF23-3C8B-4CCD-AE5D-3E294F14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FD51-3639-4DDB-BA58-B61FEEA9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7E8E-088B-4561-9D4B-D6720C3D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D2132-2047-4F11-B44D-F9BCF830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C2C5F-8357-4CF9-AECD-66DFC162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4F6FC-B899-47C9-805E-7D0ABDDD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4B4F8-FA33-4EBC-89F1-8E38AED7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CED-E859-416D-8232-F3FA4ADD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91A0D-6D50-40C2-AC34-FEECF61D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A8458-22DE-4B35-800D-8D4EC47E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5A195-756D-40C0-B934-B905BF5C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21850-B2F1-4504-9575-5830FD64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3675-F666-4CF8-88E1-E7C97C79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A4EF6-B2DE-4430-AAEC-C7ED9128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DD05F-9A5C-42CC-9530-9603FC91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301A3-DD6E-490E-BEF0-6E324998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636B0-A56F-4BB1-8A88-B6C1F31B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DD6C5-8472-4B7E-B5C3-2A8713C8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B3F-B571-47BB-985E-AAB7D37F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52D3C-02C1-4783-8F36-21EA3C4D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E66C0-A3E7-4B07-910C-382BB86C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35141-BF21-4669-9ECA-1D548626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D705F-4FFC-4DA7-9F77-FBBC1FEB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AE8F2-C441-47D9-9D1E-F2DEF92A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A0614-A2BF-4336-B7F5-28E4EC3C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1890F-F29A-478B-ACC8-DB51B01D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202FF-0B61-4DD3-ABB1-4829EE71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5A99C-5D71-4252-B691-0C389985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11520-0800-49C3-97DB-05F4C712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3C7-30E5-433C-B856-D500A2A4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56158-A1CE-4056-8214-AAC5FE09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61920-595A-48E3-95F7-85B078AE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DC060-AC7B-4306-9BD6-AF8A1CB7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EA3DF-76C7-4881-A1F5-DDD8C257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6D27F-5011-462A-ABFD-1A333308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AF7D7-D36E-42E0-813B-D7BE948E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F1C80-4918-4023-AC64-E647CF0D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F5135-6DAD-46A9-B099-35DC589C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247A7-0CF9-4D2E-8958-6015D5F3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14F6A-6898-4D1D-993A-30B5F9D8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870-913D-4260-A565-86572FB6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2D580-1457-461C-98E5-D38529E0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4FB97-80A5-4468-9A50-118C632D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6A823-730A-4FA4-9B0C-F25306E9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0BEA3-1528-4AA8-A674-1F962B4C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45BD6-8079-45E8-9E7E-A0C40A6D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E4DE0-31E2-44A3-9B05-935DA5B6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A0633-EB78-4B73-835E-C26E9796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6417C-CF03-40C8-B3C6-9F53544C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CFF1E-19FE-4B95-A750-27618AF4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7619E-0492-4255-B536-5061925C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99C-1375-47F6-99A6-976D8546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7FA4B-D9B8-4A3D-868A-1A3D249D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010A7-99E0-4E07-A0E2-41B6E803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1C399-5D1B-41C2-956C-7FF36BF6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7899F-BF87-45E1-8B62-21DBE245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54608-DEBF-41DA-93D7-F749CD9D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6690C-582B-4C72-9316-85F1CD26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0DCC5-57FB-479B-B937-2002CA0A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E25F5-C0C8-41DD-B83F-3D7D39CB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29FA8-5AF6-4E3D-8589-DD13825A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C81D1-1D89-46D1-81D5-3ADDA2F1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808-8074-40F1-A1FE-8BA07615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E2276-D48C-4772-BB31-3FCACBEE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E98B1-A071-4FF2-9B93-FC1EDD47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C2C0F-B9C1-4F82-9C3E-5F5148AF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777AE-9E24-4981-B0CB-BA519046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90A94-DB3F-471D-83F9-29214F7E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002B2-1396-4044-8800-DDC65631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0F848-E422-4470-A3B8-4EA141B7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B26D1-9EA4-45DE-A2B3-6261ADB2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BB2D4-0E2E-48E8-B5A1-0727F819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6DA89-8982-4FD9-8C4A-4AC8EF63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ED62-7E7A-460D-A13A-143F106C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7903E-E02C-4D35-B66C-44F661A7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BEFFD-602E-489B-8637-2A75FD48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1E328-3FAA-4DB6-AD7F-280058AF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38D65-9AD8-44C1-9A42-D037B3FE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058F2-1AE4-462E-843B-C8CA95C4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DC12A-0DC5-4800-82FA-C907A979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2A7D3-F6D6-41D0-94DD-132E085D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0BB47-A84B-4EC1-82E7-52758B1B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60E3E-431A-46D2-AA5A-5924B393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BFEA6-5FAC-491B-A294-AE1E5B33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exão recta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Conexão recta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F760-889F-4DBF-ABA3-827C7062CDEE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exão recta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Conexão recta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Conexão recta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Conexão recta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exão recta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Conexão recta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06E2-2F20-472A-8439-882B42554260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exão recta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Conexão recta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Conexão recta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Conexão recta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Conexão recta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Conexão recta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8231-FB46-4B8E-8536-9523BFB6B30C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exão recta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Conexão recta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BAEA-ADCF-46D8-A29F-0CD2109BAAE2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exão recta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Conexão recta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34FC-D206-4CDC-B654-4B00C19AF984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C978-D99C-406B-8F91-1ED9BEFF56D3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exão recta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Conexão recta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3BC3-FF51-451B-970A-0B8BD28FA2FE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180E-DBC2-459D-8B25-70642521F294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A35A-EBB1-4943-B7AC-5B92D7B2A581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554040" y="5681520"/>
            <a:ext cx="7931160" cy="13525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785880" y="2138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4e3b30"/>
                </a:solidFill>
                <a:latin typeface="Arial"/>
              </a:rPr>
              <a:t>FORMAS DE RELEVO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2"/>
          <a:stretch/>
        </p:blipFill>
        <p:spPr>
          <a:xfrm>
            <a:off x="2286000" y="1714680"/>
            <a:ext cx="4191120" cy="3157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304920" y="-96840"/>
            <a:ext cx="6626160" cy="14922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"/>
          <p:cNvSpPr/>
          <p:nvPr/>
        </p:nvSpPr>
        <p:spPr>
          <a:xfrm>
            <a:off x="0" y="5786280"/>
            <a:ext cx="9001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Calibri"/>
              </a:rPr>
              <a:t>… 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Calibri"/>
              </a:rPr>
              <a:t>uma grande elevação  do  terreno com  o  cume (cimo)  aguçado e  grande  inclinação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2"/>
          <a:stretch/>
        </p:blipFill>
        <p:spPr>
          <a:xfrm>
            <a:off x="1600200" y="1170000"/>
            <a:ext cx="5638680" cy="42274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22400" y="5742000"/>
            <a:ext cx="8808840" cy="13780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2"/>
          <p:cNvSpPr/>
          <p:nvPr/>
        </p:nvSpPr>
        <p:spPr>
          <a:xfrm>
            <a:off x="357120" y="714240"/>
            <a:ext cx="664380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ângulo 6"/>
          <p:cNvSpPr/>
          <p:nvPr/>
        </p:nvSpPr>
        <p:spPr>
          <a:xfrm>
            <a:off x="785880" y="0"/>
            <a:ext cx="55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624139"/>
                </a:solidFill>
                <a:latin typeface="Arial"/>
                <a:ea typeface="Calibri"/>
              </a:rPr>
              <a:t>A  serra  é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Imagem 1" descr=""/>
          <p:cNvPicPr/>
          <p:nvPr/>
        </p:nvPicPr>
        <p:blipFill>
          <a:blip r:embed="rId2"/>
          <a:stretch/>
        </p:blipFill>
        <p:spPr>
          <a:xfrm>
            <a:off x="1357200" y="1214280"/>
            <a:ext cx="6429600" cy="47307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158760" y="5462640"/>
            <a:ext cx="9309240" cy="1359000"/>
          </a:xfrm>
          <a:prstGeom prst="rect">
            <a:avLst/>
          </a:prstGeom>
          <a:ln w="0">
            <a:noFill/>
          </a:ln>
        </p:spPr>
      </p:pic>
      <p:pic>
        <p:nvPicPr>
          <p:cNvPr id="417" name="Imagem 7" descr=""/>
          <p:cNvPicPr/>
          <p:nvPr/>
        </p:nvPicPr>
        <p:blipFill>
          <a:blip r:embed="rId2"/>
          <a:stretch/>
        </p:blipFill>
        <p:spPr>
          <a:xfrm>
            <a:off x="1928880" y="1143000"/>
            <a:ext cx="4917960" cy="450072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357120" y="214200"/>
            <a:ext cx="5500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624139"/>
                </a:solidFill>
                <a:latin typeface="Arial"/>
                <a:ea typeface="Calibri"/>
              </a:rPr>
              <a:t>A colina é 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1311120" y="-19080"/>
            <a:ext cx="5046840" cy="1487520"/>
          </a:xfrm>
          <a:prstGeom prst="rect">
            <a:avLst/>
          </a:prstGeom>
          <a:ln w="0">
            <a:noFill/>
          </a:ln>
        </p:spPr>
      </p:pic>
      <p:pic>
        <p:nvPicPr>
          <p:cNvPr id="420" name="Imagem 1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6851520" cy="464328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6"/>
          <p:cNvSpPr/>
          <p:nvPr/>
        </p:nvSpPr>
        <p:spPr>
          <a:xfrm>
            <a:off x="0" y="5929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um terreno baixo, situado entre montan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Imagem 1" descr=""/>
          <p:cNvPicPr/>
          <p:nvPr/>
        </p:nvPicPr>
        <p:blipFill>
          <a:blip r:embed="rId3"/>
          <a:stretch/>
        </p:blipFill>
        <p:spPr>
          <a:xfrm>
            <a:off x="1146240" y="1125360"/>
            <a:ext cx="6851520" cy="4643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378000" y="-109440"/>
            <a:ext cx="6724440" cy="14936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"/>
          <p:cNvPicPr/>
          <p:nvPr/>
        </p:nvPicPr>
        <p:blipFill>
          <a:blip r:embed="rId2"/>
          <a:stretch/>
        </p:blipFill>
        <p:spPr>
          <a:xfrm>
            <a:off x="928800" y="1143000"/>
            <a:ext cx="6966000" cy="46386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0" y="5929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...um terreno plano situado a grande alt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590400" y="-208080"/>
            <a:ext cx="6553440" cy="1487520"/>
          </a:xfrm>
          <a:prstGeom prst="rect">
            <a:avLst/>
          </a:prstGeom>
          <a:ln w="0">
            <a:noFill/>
          </a:ln>
        </p:spPr>
      </p:pic>
      <p:pic>
        <p:nvPicPr>
          <p:cNvPr id="427" name="Imagem 7" descr=""/>
          <p:cNvPicPr/>
          <p:nvPr/>
        </p:nvPicPr>
        <p:blipFill>
          <a:blip r:embed="rId2"/>
          <a:stretch/>
        </p:blipFill>
        <p:spPr>
          <a:xfrm>
            <a:off x="1128600" y="1157400"/>
            <a:ext cx="6593040" cy="47368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5"/>
          <p:cNvSpPr/>
          <p:nvPr/>
        </p:nvSpPr>
        <p:spPr>
          <a:xfrm>
            <a:off x="285840" y="578016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...uma grande extensão de terreno plano situado a baixa alt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5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5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5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30:48Z</dcterms:created>
  <dc:creator>EB1 da Boavista</dc:creator>
  <dc:description/>
  <dc:language>en-US</dc:language>
  <cp:lastModifiedBy>Utilizador</cp:lastModifiedBy>
  <dcterms:modified xsi:type="dcterms:W3CDTF">2012-06-29T16:13:06Z</dcterms:modified>
  <cp:revision>58</cp:revision>
  <dc:subject/>
  <dc:title>Apresentação do PowerPoint</dc:title>
</cp:coreProperties>
</file>